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336-A87A-456B-9EDB-7A9C1C2B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57B-373A-43E3-94AF-E9F303EA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3581C-5EF2-4145-9A59-B667D6F6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39228-8AC4-4EF4-A4F8-9911198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AEB24-C4C5-4CA5-A602-F162001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4366E-CDB4-4262-A6E0-1A10FD2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2D469-92E9-4AAF-B31A-61E732B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11C39-914D-4D99-8699-1937EBF0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7973-13C0-4818-BCAA-C36933C6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67957-98FF-4F84-BDF5-868AE4D9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D6B58-60D0-4FC4-AA55-3D97E51A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D9ED7-C5CE-4DF7-B770-71084BF4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85A-FE2C-4051-B7D3-F67DEA9A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38457-1C63-4739-BAEA-1B5CD3FC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3158B-5AF2-4CEA-8028-49A96CE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79D8A-8797-4E70-A620-0119B74F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46D96-F39E-4C69-B210-09C83574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2024C-DB23-4763-A8FF-0F8980D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2FA21-3F94-4CED-A8EB-D6B0E61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63B0C-BF9A-4A17-89A8-791907D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95531-C735-41E8-BA1B-8A69451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29171-FF1A-4E66-B5CA-885371B0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68282-1A56-4C1D-AD16-00DF69C2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23C-61C0-4F45-B788-B3E18C9A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25BB-8397-4FD0-86CC-0C39167A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9847-21D4-4EF4-B2B5-3640DB55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06450-27C4-4A7C-8228-CC35A35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B1119-DB76-4837-83E5-C659203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D9FCA-92DB-41D2-9C06-08CF6B86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749E-9DD0-48B5-ABDC-FA627DE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5CF3F-7981-4937-93F6-2BB2883F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07BC-2FCA-4E79-9657-4863D30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13A3-83FD-4EAA-99BE-28DA3EC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7C2C0-59DB-49C1-BFC7-D7153F9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CB05-57A9-413F-A0EC-E1913C3B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1DEEB-CF10-4A14-B1C8-D158C7AA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E3BCC-D846-481C-B8BE-73C9CC13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F032-B4AC-4056-A2E0-D1575524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31228-C2CB-4374-A681-40BCCDF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630FC-D9D0-4262-B867-B5DAABA6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DDD20-65A4-4C93-8E27-9A3C66F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6B8DC-B624-48A7-B548-FED801E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F1EEB-4400-4374-B2CC-A836880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41984-CB47-4B54-96BD-BCF8204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51402-C00C-4CFF-8C02-580EA7A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AD77-8541-4276-AF87-1864EE62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ADF9A-4D51-403F-A6FD-4BF7AE93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933CA-57C9-43D0-9959-1A528A2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D931E-7EE7-4BC9-B090-34482FE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C2D0B-B2C3-49A9-97C7-2AF83834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A7AC4-FA95-43A0-906E-D3E4304E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8DE1-57BA-49FD-A61E-609FD73D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F55-04D6-48A5-BA38-C91DBB13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F58-75BB-4D28-AECF-D0B9291F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689F-D661-4EC3-9203-DEEFC66F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F9A4-248A-412D-BD7B-F847508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AF2-A292-4436-BEE0-F571677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6A7F-2B46-4057-81BC-00B7BB3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CB29-5367-4B52-A6B3-38051DF9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65C-AA64-46F1-8330-B458124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35BE-B8AB-41C2-8D95-8F174BD5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509B-5DA8-44A1-AC37-4772D88F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ACA6-9978-4E44-9405-52E1FF2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8985-B14C-494D-9CBC-53D36C3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972F-2C4E-4208-8ABE-89C627D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66B0-0921-4315-AE13-EA877C6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A341-5848-4AD9-997C-AFEC1428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C8D-82FB-4864-AED3-26B5E37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3BB6-6E9D-46B5-8B02-10E5959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75FC-8896-4567-837E-32F7070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2CC0-46E2-4785-989B-DE0FAF9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22DB-052D-417F-ABA9-28BEA06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6CE1-A36F-43A3-8EB4-EC52503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7300-774A-45CC-886C-F3C724C2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A071-6AC9-4D92-943D-E716C1D0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CCE8-13F3-4187-8719-5E2FBCBB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C18F-B424-4E00-A6D4-EF622648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99ED-6584-490B-BE37-29B8AEB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4E6-642E-45E7-91F3-5A3E9F5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DF23-78A1-45FE-8F47-3568EEF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294A-5351-42FC-8685-9B10D962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BA29-2C36-42C7-9723-D0A1503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EC28-E4F2-4E16-91BD-8279BCF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F378-AA4B-4DB3-8535-319334D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E26F-D396-4938-87F9-C0B520C4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97CA-A8AC-4B2C-887D-06CE74F7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557F-D021-40C5-B780-65BB1DC4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659FA-780B-459C-8DC4-D121DE8E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27A4-0DD6-4ACE-82D7-DEAA9234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1FD-35B4-40FB-91D1-EC9439E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18B4-BDE0-4A64-A159-4F9DEAF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61BE3-5306-4B0A-A2D0-E11CBD8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D69A-0F28-4A73-BF5B-1CD65B1E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B16C-2EA0-4683-B8FC-E8BE457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EFED-72BC-4497-BE09-38FFE4B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95F5C-185C-47AC-93E9-B1F70D69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6D662-D29E-4A00-8B19-D8B0E5A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E058-464E-4C97-9FC7-37E0E41A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210F-64FF-479C-A86F-9A9445AF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DC7C1-5786-4882-939C-F85F2EED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10E-79AE-48E8-8A43-DBABB6C9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F54D-45B6-42D3-A140-F496D620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9803-4BEA-4D1F-814F-F5DC6ADE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F6595-02CB-4513-B311-1B01C632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69E9-7B02-40AC-AAFE-3B3D7FA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2349-536B-4C00-B95E-0AFE2FE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6EFF-B81D-45FE-A402-1E861DC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9537-4520-4C3F-8742-492300C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95C58-2289-4995-A476-FCE5341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4F24-CC2E-4224-8542-77B09933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A9B9-8129-4734-A4A1-6913A8C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CB7-5919-4AD8-96C8-92C147A7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E908-D2E1-48CA-B0EA-2153067A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7C6F-FE8F-4110-BA22-1B847FE9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62CCE-20B9-47D4-9460-D6946EA5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D235-5C95-4C1D-A6B0-B60F44AA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FB6A-972E-4517-921A-CF994CB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42BC-22EB-4739-BFF0-5FA088F7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B5A0-8466-4D8E-A418-D86784C5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46CD9-6C07-4B7A-918B-1BB472A6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89CA-9039-42DB-9FBB-7DABC14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810D6-37F7-4E33-99DD-EFC29CC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F57-52C9-437D-A9D4-17061C42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15EAA-2F26-4E6B-8DCB-DB24E08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6430-70BA-42A2-849B-5438516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A779-10BA-4D50-8511-78BE3F1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97B5-4A11-42D2-B80A-4EC3678F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55D19-C896-4E36-AEAE-336EDD17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E16D-60B9-42E0-B407-46D54976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71C59-9EEF-4DAA-9A0C-94E2AE2B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175B-882B-4CE1-8904-5B5AD28C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98967-0A9B-4EFA-AFD6-51FC9D2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7EA1D-00EA-42BD-9692-DBA19394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367-7FC3-4125-B071-2963315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19CAC-426E-4739-A2FF-C0F8B00E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900F6-13A9-457F-835A-F6F2689D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B6C8-0B25-4EB7-B186-9EEA86B8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6985F-23CF-423D-BC10-48EEB37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995A-0776-42FD-9A6F-D80269DE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D2997-9F60-4397-A70E-068FA5FC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B447C-70DD-45DF-8068-D6E2C23A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D31EB-40D0-4427-8D3B-FF2C7514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A2367-EFE2-4A1A-8B01-3F2494C1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F5907-78D6-41BF-9294-5981BA10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3311-4E18-415F-8D6E-D0FAE036A7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08F8-8FD4-4D45-8929-22D701099B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094A-6CA6-4733-8E03-92B2061997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F77-51FE-4652-88A0-3355B0C210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112-063E-43FA-88F4-11E3E0599C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891-D73A-44D7-AF3B-CA8BEA34ED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9E2-DF12-48F4-AC25-BD8EBA517C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1A0-2595-4B27-97C7-8CB3400412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D2C-BFE4-43D5-8A53-4BD8F5AEFD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34E1-599F-4490-8A3E-56F1A5C19B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44E-97C6-49D4-B0F3-062FCD8B7B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179C-467C-4BD1-BAFC-C1DA173341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5 Dom ten je vždy požehna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 ten je vždy požehna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torom láska preb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ŕdc Bohu odovzda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ý spev sa ozý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a všetci svorne s lásk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ia Pána poslúch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ýva tam vecou ťaž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ni krivdy odpúšť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rád žehná také d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ctia si rodič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na jar svieže kve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a sú ozdobou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8:44Z</dcterms:modified>
  <cp:revision>77</cp:revision>
  <dc:subject/>
  <dc:title>Je veľký náš Pán, on slávy je Kráľ Nech do všetkých strán  spev vrúcnych znie chvál.</dc:title>
</cp:coreProperties>
</file>